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chimes.wav" ContentType="audio/x-wav"/>
  <Override PartName="/ppt/media/wind.wav" ContentType="audio/x-wav"/>
  <Override PartName="/ppt/media/image7.wmf" ContentType="image/x-wmf"/>
  <Override PartName="/ppt/media/image6.wmf" ContentType="image/x-wmf"/>
  <Override PartName="/ppt/media/whoosh.wav" ContentType="audio/x-wav"/>
  <Override PartName="/ppt/media/image10.wmf" ContentType="image/x-wmf"/>
  <Override PartName="/ppt/media/bomb.wav" ContentType="audio/x-wav"/>
  <Override PartName="/ppt/media/drumroll.wav" ContentType="audio/x-wav"/>
  <Override PartName="/ppt/media/image5.wmf" ContentType="image/x-wmf"/>
  <Override PartName="/ppt/media/applause.wav" ContentType="audio/x-wav"/>
  <Override PartName="/ppt/media/image9.wmf" ContentType="image/x-wmf"/>
  <Override PartName="/ppt/media/image8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arrow.wav" ContentType="audio/x-wav"/>
  <Override PartName="/ppt/media/coi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670-9DFC-47FD-8122-E1CAE7D7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61E-0BDA-43B6-A7E8-42B19431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D60-F1BA-4EC7-9AF6-1CEAF4AC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29D-F310-4B56-850F-DA745204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12AF-AD1B-415B-B777-C009E36B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36D9-8C61-4E9E-978F-ABC2F90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76C0-B52C-4A29-85A4-444B1450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D97B-FB92-48EC-9AC2-D4960A2E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6988-DFEA-4F92-B25C-80D84A46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8F5B-5614-4742-9297-DEAE1E3A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10F4-2EB9-40EB-9361-530A559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D71-0358-40F7-9A59-6728D943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8CA1-4A6D-4AC1-8EEF-2CBF28A3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61B9-4343-4D80-BEC0-17461EF8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DA68-B643-4BBE-8515-3788464D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3D87-A62B-4B99-8B2A-3C475A32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60BA-4845-4766-AA99-BC56D7C6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6559-4227-48BA-B822-BDF8359D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9095-30D1-4773-BB16-CE4CD468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0733-6138-47C6-ABC8-F3BE4E52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8EA4-8C4A-4703-B0E3-728BB78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8301-689E-474D-B40B-A03FA7D8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B74-CE31-480C-BDB4-628787B3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AE47-0466-4BEA-B8D9-DDDEF8DF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65B5-81BB-4D7D-9A59-2B13C79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9357-B7E5-4119-9635-36E0ABD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93E6-87E5-47F6-8F42-980B042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F0D7-C32B-448C-BE64-65D91891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A380-0B54-4C8A-99B2-467D72E4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965A-2E1D-44C1-AB95-6F5AB4D4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9D27E-BF78-428E-9AD9-5AEE8B06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0D73A-CF78-43F0-A753-E25807B1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0BACB-6781-47EA-904A-6A5896B0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B4B-852C-422B-B9F2-E14957E6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E193D-6899-4A2C-ADDA-B6A26993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7188A-8358-4490-BACA-ED1A22E1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6C695-93B3-455D-8BF2-8D8D86B7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8B2F1-E717-4875-BD39-5685B67B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711C7-06A9-4885-9534-ED96A38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628B7-3DE3-40DF-B962-5CA9633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AAAED0-8DE0-4B9A-8FC9-FEA31332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483C9-A534-4203-997B-7BFA20CB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BF4A1-C731-4F04-8289-46B6220E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EF990-B307-45D7-A37C-722429EC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0C0-2172-4FA5-93BB-6A88D80E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B4224-8828-44D2-A14C-941D0F1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49DE-B407-45DD-8D7B-BC7FF96C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9A48F-B20B-477B-A5AC-58412C21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2FD9-DB16-49FE-B404-CF1DB6F0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D2AEF-1C7F-471E-8F40-A7307B60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4096B-A47A-4D07-B0F9-BECE794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2F06C-36FB-44AE-B04A-DC6AFF3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FAF2B-F051-49C9-B7C8-46842C87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938C-1410-482D-BAC2-6FE0ABF1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B315F-B114-4175-9CCC-0016A417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B8C-4C41-46FF-8E2F-0075E95C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6AA10-AA6B-45DC-B55E-3155DE29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461A5-EA52-41EA-897D-78DCD600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9315-05C9-4B57-A507-37FE99D0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B3FD2-4617-4855-A9A2-51B02A0E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800AF-ABBA-405D-9681-7D487E5E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6C5D9-F3AB-4125-9F78-2747DFFA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8886-77B9-49BE-AE65-C801B938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46C93-715E-466A-ACDE-7770775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CD05-0CBD-4BF3-934B-A0D18A5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3291-9D10-4D24-85D7-3E0BE8B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1AF-3762-4923-B5CC-EB4C6DD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15A40-584A-4511-841A-F876E36D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EF404-7F86-47EB-8295-A9DCA24C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35406-3B4D-485F-9F15-681DD645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8D3-4B24-445E-B10E-DF8E58F5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49A-829F-42FF-90A4-E405873B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3AA9-5F91-4473-B95C-73D7AFD33CF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53E1-5BEA-4C46-9EF1-4D2936DAEF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7C6B-D3AE-4826-AA04-985618F27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5F7C-75AC-48D8-A80A-A81E741C6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3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E22B-B3E1-4BB3-8008-EB7CB7C24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189E-B20B-4F37-B316-6C233D201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audio" Target="../media/bomb.wav"/><Relationship Id="rId6" Type="http://schemas.openxmlformats.org/officeDocument/2006/relationships/audio" Target="../media/coin.wav"/><Relationship Id="rId7" Type="http://schemas.openxmlformats.org/officeDocument/2006/relationships/audio" Target="../media/chimes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drumroll.wav"/><Relationship Id="rId4" Type="http://schemas.openxmlformats.org/officeDocument/2006/relationships/audio" Target="../media/bomb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03280" y="404640"/>
            <a:ext cx="62136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u manges sainemen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24000" y="692280"/>
            <a:ext cx="85788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>
                        <a:alpha val="50196"/>
                      </a:srgbClr>
                    </a:gs>
                    <a:gs pos="100000">
                      <a:srgbClr val="00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ui, je pense que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>
                      <a:alpha val="50196"/>
                    </a:srgbClr>
                  </a:gs>
                  <a:gs pos="100000">
                    <a:srgbClr val="00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195640" y="1989000"/>
            <a:ext cx="158436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>
                        <a:alpha val="50196"/>
                      </a:srgbClr>
                    </a:gs>
                    <a:gs pos="100000">
                      <a:srgbClr val="00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>
                      <a:alpha val="50196"/>
                    </a:srgbClr>
                  </a:gs>
                  <a:gs pos="100000">
                    <a:srgbClr val="00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140360" y="2276640"/>
            <a:ext cx="331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>
                        <a:alpha val="50196"/>
                      </a:srgbClr>
                    </a:gs>
                    <a:gs pos="100000">
                      <a:srgbClr val="00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ng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>
                      <a:alpha val="50196"/>
                    </a:srgbClr>
                  </a:gs>
                  <a:gs pos="100000">
                    <a:srgbClr val="00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619280" y="3645000"/>
            <a:ext cx="640872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>
                        <a:alpha val="50196"/>
                      </a:srgbClr>
                    </a:gs>
                    <a:gs pos="100000">
                      <a:srgbClr val="00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inemen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>
                      <a:alpha val="50196"/>
                    </a:srgbClr>
                  </a:gs>
                  <a:gs pos="100000">
                    <a:srgbClr val="00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411960" y="2852640"/>
            <a:ext cx="2732040" cy="14590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476360" y="692280"/>
            <a:ext cx="6335640" cy="10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e mang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1849320" cy="1878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484360" y="1628640"/>
            <a:ext cx="5183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eaucoup de fruit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11280" y="3357720"/>
            <a:ext cx="58258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beaucoup de légum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56000" y="4653000"/>
            <a:ext cx="59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t de produits laiti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2e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1039680" cy="17478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2079720" cy="129384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1187280" y="3429000"/>
            <a:ext cx="1963800" cy="941040"/>
            <a:chOff x="1187280" y="3429000"/>
            <a:chExt cx="1963800" cy="94104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1841760" y="3468240"/>
              <a:ext cx="13093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1187280" y="3429000"/>
              <a:ext cx="130932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 txBox="1"/>
          <p:nvPr/>
        </p:nvSpPr>
        <p:spPr>
          <a:xfrm>
            <a:off x="250920" y="0"/>
            <a:ext cx="6481800" cy="25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e ne mange jamais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492360" y="2276640"/>
            <a:ext cx="4608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vian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92360" y="3645000"/>
            <a:ext cx="4894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 bon b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492360" y="5013360"/>
            <a:ext cx="48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de fri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2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1283040" cy="17337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476360" y="4005360"/>
            <a:ext cx="1706400" cy="1920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95280" y="0"/>
            <a:ext cx="6481800" cy="25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e ne bois jamais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95640" y="4221000"/>
            <a:ext cx="3129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'alcool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67280" y="2133720"/>
            <a:ext cx="309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 coca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260280"/>
            <a:ext cx="4824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e ne mange guère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5400720" cy="2511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684360" y="2924280"/>
            <a:ext cx="478440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de chocol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55640" y="4724280"/>
            <a:ext cx="777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eut être deux fois par jou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de7c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9640" y="765000"/>
            <a:ext cx="81154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t ce que je mange sainemen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39640" y="2349360"/>
            <a:ext cx="8209080" cy="12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'est ce que vous pensez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6T10:31:16Z</dcterms:created>
  <dc:creator>Ella Parkin</dc:creator>
  <dc:description/>
  <dc:language>en-US</dc:language>
  <cp:lastModifiedBy>Ella Parkin</cp:lastModifiedBy>
  <dcterms:modified xsi:type="dcterms:W3CDTF">2002-06-30T11:13:22Z</dcterms:modified>
  <cp:revision>5</cp:revision>
  <dc:subject/>
  <dc:title>Slide 1</dc:title>
</cp:coreProperties>
</file>